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4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camera.wav" ContentType="audio/x-wav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26" end="5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C8E-14DE-4A68-B255-900D43AD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C63-AEB6-4E84-9B8D-E3727CF9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814-0A18-4921-AE38-2ED95D85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862A-AE48-4784-815C-90FA1C87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E630-3271-449F-BB97-2E8EC118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3A0A-E534-449C-9344-C0E35844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24F2-B42A-43ED-95FC-A732453C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7998-CACE-45B4-8949-DF592DD5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5F86-A2DD-4A77-96DB-6B553ECB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DF4D-FB9E-44ED-B471-BB02E638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ADBB-522F-46E4-B48E-8D2F629B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624-9B2B-413F-8983-D1A2614D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8BDC-7EA7-47CB-BEE5-35997853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02DD-2030-41E8-9B6A-F2CEF7DF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3CEF-0F44-4648-8107-DEA1729E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185C-100D-4EC6-A6BB-17092F04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1588-F5E7-41DD-B676-BBCDB3B8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828-00BA-472D-852F-AD827306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C1C-C719-44FA-B780-1AAE749A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3D6-007F-41AE-9D2C-3773F707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744-1CB3-446C-8849-CEC71F6C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A45-6E2F-49EF-8991-749EF28D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8E3-2FF9-46AE-A9DF-E6FE35D0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F05-D3BA-4D05-8713-5EEE740E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14400"/>
            <a:ext cx="8556480" cy="1052280"/>
            <a:chOff x="0" y="14400"/>
            <a:chExt cx="8556480" cy="1052280"/>
          </a:xfrm>
        </p:grpSpPr>
        <p:sp>
          <p:nvSpPr>
            <p:cNvPr id="1" name="Rectangle 3"/>
            <p:cNvSpPr/>
            <p:nvPr/>
          </p:nvSpPr>
          <p:spPr>
            <a:xfrm>
              <a:off x="673200" y="1224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5"/>
            <p:cNvSpPr/>
            <p:nvPr/>
          </p:nvSpPr>
          <p:spPr>
            <a:xfrm>
              <a:off x="784080" y="5446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14"/>
            <p:cNvGrpSpPr/>
            <p:nvPr/>
          </p:nvGrpSpPr>
          <p:grpSpPr>
            <a:xfrm>
              <a:off x="0" y="14400"/>
              <a:ext cx="8556480" cy="1052280"/>
              <a:chOff x="0" y="14400"/>
              <a:chExt cx="8556480" cy="1052280"/>
            </a:xfrm>
          </p:grpSpPr>
          <p:sp>
            <p:nvSpPr>
              <p:cNvPr id="4" name="Rectangle 2"/>
              <p:cNvSpPr/>
              <p:nvPr/>
            </p:nvSpPr>
            <p:spPr>
              <a:xfrm>
                <a:off x="290520" y="122400"/>
                <a:ext cx="4381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Rectangle 4"/>
              <p:cNvSpPr/>
              <p:nvPr/>
            </p:nvSpPr>
            <p:spPr>
              <a:xfrm>
                <a:off x="414360" y="544680"/>
                <a:ext cx="4222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0" y="471600"/>
                <a:ext cx="560160" cy="422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635040" y="14400"/>
                <a:ext cx="31680" cy="1052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330120" y="776160"/>
                <a:ext cx="8226360" cy="3204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558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155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15588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15588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1558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1558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A746-F3E6-404D-8EB2-3677E61FA1E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5625C9D8-C2A7-4281-A8A2-0057209920A8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192B-D6F8-4828-B062-5E8EDD889F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Text Box 16"/>
          <p:cNvSpPr/>
          <p:nvPr/>
        </p:nvSpPr>
        <p:spPr>
          <a:xfrm>
            <a:off x="73152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aettenschweiler"/>
              </a:rPr>
              <a:t>CHAPTER  Eigh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558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155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15588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15588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1558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1558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2404-3836-4998-AD75-B76FC79FE536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3F8B1039-D263-44A0-8634-7FE843A9123D}" type="datetime10">
              <a:rPr b="0" lang="en-US" sz="1400" spc="-1" strike="noStrike">
                <a:solidFill>
                  <a:srgbClr val="1c1c1c"/>
                </a:solidFill>
                <a:latin typeface="Tahoma"/>
              </a:rPr>
              <a:t>17:12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F83E-0BDB-4B3B-86B0-79EE17586E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40.xml"/><Relationship Id="rId2" Type="http://schemas.openxmlformats.org/officeDocument/2006/relationships/slide" Target="slide140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ABE6-1E7F-4671-83D2-E62EB74B4BE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D6F1393D-2CBE-4305-80E3-6B02A0E47CA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88D4-095B-49CF-88FF-49CCE68AED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离散数学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Discrete Mathematic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B4BA-99F9-4288-9099-B06546D06E9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385CD17-D8A3-4302-8410-1274CF2AE31F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A698-7F27-4D7E-AF64-72279B2A6C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762120" y="17524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0880" y="1981080"/>
            <a:ext cx="8305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851040" y="628560"/>
          <a:ext cx="7537320" cy="59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628560"/>
                    <a:ext cx="7537320" cy="59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CCE5-C513-4103-A439-2A333A92EC5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02975C2-322F-4631-8003-3209D0EE49E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6700-996C-46B1-9341-9FE48E97C5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0872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6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对给定的集合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和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构造双射函数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:A→B.</a:t>
            </a:r>
            <a:endParaRPr b="1" lang="en-US" sz="2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893880" y="1363680"/>
          <a:ext cx="648792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363680"/>
                    <a:ext cx="64879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4"/>
          <p:cNvGraphicFramePr/>
          <p:nvPr/>
        </p:nvGraphicFramePr>
        <p:xfrm>
          <a:off x="611280" y="2335320"/>
          <a:ext cx="7175520" cy="404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335320"/>
                    <a:ext cx="7175520" cy="40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88DF-4A68-4CB4-B293-C9331045D6B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EAB7299B-6E91-4973-A40F-476834F7D4E3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A0ED-DB31-43E7-97C9-F9E6FB9D23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611280" y="928800"/>
          <a:ext cx="7292880" cy="54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28800"/>
                    <a:ext cx="729288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6184-32E7-4965-AB72-B7A3CEB5D80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D07890EF-89C5-4279-9486-9C96EC164D7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2ED6-6989-4B40-B361-13B4AABDEE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762120" y="17524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1981080"/>
            <a:ext cx="8305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95280" y="1125360"/>
            <a:ext cx="8381880" cy="30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如果存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使得对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都有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则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常函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恒等关系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恒等函数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对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都有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A, </a:t>
            </a:r>
            <a:r>
              <a:rPr b="1" lang="en-US" sz="2200" spc="-1" strike="noStrike">
                <a:solidFill>
                  <a:srgbClr val="000000"/>
                </a:solidFill>
                <a:latin typeface="Antique Olive Compact"/>
                <a:ea typeface="Arial Unicode MS"/>
              </a:rPr>
              <a:t>≼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B, </a:t>
            </a:r>
            <a:r>
              <a:rPr b="1" lang="en-US" sz="2200" spc="-1" strike="noStrike">
                <a:solidFill>
                  <a:srgbClr val="000000"/>
                </a:solidFill>
                <a:latin typeface="Antique Olive Compact"/>
                <a:ea typeface="Arial Unicode MS"/>
              </a:rPr>
              <a:t>≼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偏序集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若对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时有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ntique Olive Compact"/>
                <a:ea typeface="Arial Unicode MS"/>
              </a:rPr>
              <a:t>≼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则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单调递增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；若对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≺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时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≺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则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严格单调递增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类似可定义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单调递减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严格单调递减函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集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特征函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'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→{0,1}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定义为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23032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7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90" name="Object 6"/>
          <p:cNvGraphicFramePr/>
          <p:nvPr/>
        </p:nvGraphicFramePr>
        <p:xfrm>
          <a:off x="2057400" y="4734000"/>
          <a:ext cx="22096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734000"/>
                    <a:ext cx="22096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7"/>
          <p:cNvSpPr/>
          <p:nvPr/>
        </p:nvSpPr>
        <p:spPr>
          <a:xfrm>
            <a:off x="468360" y="558972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等价关系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令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: A→A/R, g(a)=[a], (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商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/ 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自然映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9475-5774-4D7E-874F-AADC98A4DB4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66EDAC2B-FF37-466E-A0A6-358D5046854C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9C15-4323-4F76-ADE0-EC3FB9A3FF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黑体"/>
                <a:ea typeface="黑体"/>
              </a:rPr>
              <a:t>   </a:t>
            </a:r>
            <a:r>
              <a:rPr b="1" lang="zh-CN" sz="2200" spc="-1" strike="noStrike">
                <a:solidFill>
                  <a:srgbClr val="6666ff"/>
                </a:solidFill>
                <a:latin typeface="黑体"/>
                <a:ea typeface="黑体"/>
              </a:rPr>
              <a:t>函数的复合也就是关系的右复合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8.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,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函数，则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也是函数，且满足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 dom(F</a:t>
            </a:r>
            <a:r>
              <a:rPr b="1" lang="zh-CN" sz="22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)={x| x∈domF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∧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(x) ∈domG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∈dom(F </a:t>
            </a:r>
            <a:r>
              <a:rPr b="1" lang="zh-CN" sz="22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(x)=G(F(x))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187280" y="11592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§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8.2</a:t>
            </a: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函数的复合与反函数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04920" y="2781360"/>
            <a:ext cx="85341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证明：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∵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F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G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是关系， 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∴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F </a:t>
            </a:r>
            <a:r>
              <a:rPr b="1" lang="zh-CN" sz="2000" spc="-1" strike="noStrike" baseline="30000">
                <a:solidFill>
                  <a:srgbClr val="a50021"/>
                </a:solidFill>
                <a:latin typeface="Times New Roman"/>
              </a:rPr>
              <a:t>。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G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也是关系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若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∈ dom(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F 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。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有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x F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。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G y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x F 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。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G y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&lt;x, y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∈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F </a:t>
            </a:r>
            <a:r>
              <a:rPr b="1" lang="zh-CN" sz="2000" spc="-1" strike="noStrike" baseline="30000">
                <a:solidFill>
                  <a:srgbClr val="a50021"/>
                </a:solidFill>
                <a:latin typeface="Times New Roman"/>
              </a:rPr>
              <a:t>。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G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&lt;x, y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∈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1" lang="en-US" sz="2000" spc="-1" strike="noStrike" baseline="30000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CN" sz="2000" spc="-1" strike="noStrike" baseline="30000">
                <a:solidFill>
                  <a:srgbClr val="a50021"/>
                </a:solidFill>
                <a:latin typeface="Times New Roman"/>
              </a:rPr>
              <a:t>。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(&lt;x, 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&lt; 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, y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G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(&lt;x, 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&lt;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, y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G)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(&lt;x, 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∈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&lt; 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, y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G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∧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(&lt;x, 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∈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&lt; 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, y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G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( 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= 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&lt; 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, y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&lt; t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, y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G)    </a:t>
            </a: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(∵ F</a:t>
            </a:r>
            <a:r>
              <a:rPr b="1" lang="zh-CN" sz="2000" spc="-1" strike="noStrike">
                <a:solidFill>
                  <a:srgbClr val="9933ff"/>
                </a:solidFill>
                <a:latin typeface="Times New Roman"/>
              </a:rPr>
              <a:t>为函数</a:t>
            </a: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=&gt; y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=y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(∵ G</a:t>
            </a:r>
            <a:r>
              <a:rPr b="1" lang="zh-CN" sz="2000" spc="-1" strike="noStrike">
                <a:solidFill>
                  <a:srgbClr val="9933ff"/>
                </a:solidFill>
                <a:latin typeface="Times New Roman"/>
              </a:rPr>
              <a:t>为函数</a:t>
            </a: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    ∴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F </a:t>
            </a:r>
            <a:r>
              <a:rPr b="1" lang="zh-CN" sz="2000" spc="-1" strike="noStrike" baseline="30000">
                <a:solidFill>
                  <a:srgbClr val="a50021"/>
                </a:solidFill>
                <a:latin typeface="Times New Roman"/>
              </a:rPr>
              <a:t>。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G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为函数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3FF0-95B9-4B65-8681-6C33DD8BD53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FDA535C-C9E2-4F27-8B5A-5458D32087AA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B970-0760-4E61-839E-8C9E3BCEFB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6624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（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）对于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, x∈dom(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=&gt;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t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y(&lt;x, t &gt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&lt;t , y&gt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G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=&gt;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t (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 dom(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F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t=F(x)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t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dom( G)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=&gt; 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 {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x| 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 dom(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F)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F(x)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dom( G)}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对于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 dom(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F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F(x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dom( G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=&gt; &lt;x,F(x)&gt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&lt;F(x),G(F(x))&gt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G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=&gt; &lt;x, G(F(x))&gt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G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=&gt; 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 dom(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F)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G(x)=G(F(x)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187280" y="11592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§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8.2</a:t>
            </a: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函数的复合与反函数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4646-13FD-47FA-B63F-74C21641933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E0E8F856-2FE8-4921-A960-0D335DF36BA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AED1-A59D-40FA-9748-AA623F4AC4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2947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推论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,G,H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函数，则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G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都是函数，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且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=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G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推论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:A → B, g:B → C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: A → C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∈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都有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(x)=g(f(x))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187280" y="11592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§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8.2</a:t>
            </a: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函数的复合与反函数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660240" y="3500280"/>
            <a:ext cx="83757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1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8.2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f:A → B, g:B → C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1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f:A→B, g:B→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都是满射的，则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g: A → 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也是满射的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1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f:A→B, g:B→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都是单射的，则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g: A → 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也是单射的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1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f:A→B, g:B→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都是双射的，则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g: A → 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也是双射的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1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证明略，参见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143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76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4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4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7FE5-40BA-4B04-BFA0-787C58BC77B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174101F3-F5D3-4A4C-B550-DE6C51FBB1A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6FB0-D56C-45EE-A6E7-27B430FE88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6108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8.3</a:t>
            </a:r>
            <a:r>
              <a:rPr b="1" lang="en-US" sz="2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: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 → 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则有     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f</a:t>
            </a:r>
            <a:r>
              <a:rPr b="1" lang="zh-CN" sz="2200" spc="-1" strike="noStrike" baseline="30000">
                <a:solidFill>
                  <a:srgbClr val="6666ff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6666ff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=I</a:t>
            </a:r>
            <a:r>
              <a:rPr b="1" lang="en-US" sz="2200" spc="-1" strike="noStrike" baseline="-25000">
                <a:solidFill>
                  <a:srgbClr val="6666ff"/>
                </a:solidFill>
                <a:latin typeface="Times New Roman"/>
              </a:rPr>
              <a:t>A</a:t>
            </a:r>
            <a:r>
              <a:rPr b="1" lang="zh-CN" sz="2200" spc="-1" strike="noStrike" baseline="30000">
                <a:solidFill>
                  <a:srgbClr val="6666ff"/>
                </a:solidFill>
                <a:latin typeface="Times New Roman"/>
              </a:rPr>
              <a:t>。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f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证明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: 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由前定理知 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zh-CN" sz="2200" spc="-1" strike="noStrike" baseline="30000">
                <a:solidFill>
                  <a:srgbClr val="6666ff"/>
                </a:solidFill>
                <a:latin typeface="Times New Roman"/>
              </a:rPr>
              <a:t>。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6666ff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 :A → B,   I</a:t>
            </a:r>
            <a:r>
              <a:rPr b="1" lang="en-US" sz="2200" spc="-1" strike="noStrike" baseline="-25000">
                <a:solidFill>
                  <a:srgbClr val="6666ff"/>
                </a:solidFill>
                <a:latin typeface="Times New Roman"/>
              </a:rPr>
              <a:t>A</a:t>
            </a:r>
            <a:r>
              <a:rPr b="1" lang="zh-CN" sz="2200" spc="-1" strike="noStrike" baseline="30000">
                <a:solidFill>
                  <a:srgbClr val="6666ff"/>
                </a:solidFill>
                <a:latin typeface="Times New Roman"/>
              </a:rPr>
              <a:t>。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 :A → B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对于</a:t>
            </a:r>
            <a:r>
              <a:rPr b="1" i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&lt;x,y&g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&lt;x,y&g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∈f  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=&gt; &lt;x, y &g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∈ 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f </a:t>
            </a:r>
            <a:r>
              <a:rPr b="1" i="1" lang="en-US" sz="2200" spc="-1" strike="noStrike">
                <a:solidFill>
                  <a:srgbClr val="000000"/>
                </a:solidFill>
                <a:latin typeface="宋体"/>
              </a:rPr>
              <a:t>∧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  y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 B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                            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=&gt; &lt;x, y &g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∈ 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f </a:t>
            </a:r>
            <a:r>
              <a:rPr b="1" i="1" lang="en-US" sz="2200" spc="-1" strike="noStrike">
                <a:solidFill>
                  <a:srgbClr val="000000"/>
                </a:solidFill>
                <a:latin typeface="宋体"/>
              </a:rPr>
              <a:t>∧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  &lt;y,y&g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 B =&gt; &lt;x, y &g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∈ 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f </a:t>
            </a:r>
            <a:r>
              <a:rPr b="1" i="1" lang="zh-CN" sz="2200" spc="-1" strike="noStrike">
                <a:solidFill>
                  <a:srgbClr val="6666ff"/>
                </a:solidFill>
                <a:latin typeface="Times New Roman"/>
              </a:rPr>
              <a:t>。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6666ff"/>
                </a:solidFill>
                <a:latin typeface="Times New Roman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&lt;x,y&g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∈ 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f </a:t>
            </a:r>
            <a:r>
              <a:rPr b="1" i="1" lang="zh-CN" sz="2200" spc="-1" strike="noStrike">
                <a:solidFill>
                  <a:srgbClr val="6666ff"/>
                </a:solidFill>
                <a:latin typeface="Times New Roman"/>
              </a:rPr>
              <a:t>。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6666ff"/>
                </a:solidFill>
                <a:latin typeface="Times New Roman"/>
              </a:rPr>
              <a:t>B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=&gt;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 t (&lt;x, t &g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∈f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宋体"/>
              </a:rPr>
              <a:t>∧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 &lt; t , y &g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6666ff"/>
                </a:solidFill>
                <a:latin typeface="Times New Roman"/>
              </a:rPr>
              <a:t>B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                            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=&gt; &lt;x, t &g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∈ 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f </a:t>
            </a:r>
            <a:r>
              <a:rPr b="1" i="1" lang="en-US" sz="2200" spc="-1" strike="noStrike">
                <a:solidFill>
                  <a:srgbClr val="000000"/>
                </a:solidFill>
                <a:latin typeface="宋体"/>
              </a:rPr>
              <a:t>∧</a:t>
            </a:r>
            <a:r>
              <a:rPr b="1" i="1" lang="en-US" sz="2200" spc="-1" strike="noStrike">
                <a:solidFill>
                  <a:srgbClr val="a50021"/>
                </a:solidFill>
                <a:latin typeface="Times New Roman"/>
              </a:rPr>
              <a:t>  t=y =&gt; &lt;x, y &g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∈ 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f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33ff"/>
                </a:solidFill>
                <a:latin typeface="Times New Roman"/>
              </a:rPr>
              <a:t>     ∴ 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f=f</a:t>
            </a:r>
            <a:r>
              <a:rPr b="1" i="1" lang="zh-CN" sz="2200" spc="-1" strike="noStrike">
                <a:solidFill>
                  <a:srgbClr val="6666ff"/>
                </a:solidFill>
                <a:latin typeface="Times New Roman"/>
              </a:rPr>
              <a:t>。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6666ff"/>
                </a:solidFill>
                <a:latin typeface="Times New Roman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同理可证明</a:t>
            </a:r>
            <a:r>
              <a:rPr b="1" i="1" lang="zh-CN" sz="2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f=f</a:t>
            </a:r>
            <a:r>
              <a:rPr b="1" i="1" lang="zh-CN" sz="2200" spc="-1" strike="noStrike">
                <a:solidFill>
                  <a:srgbClr val="6666ff"/>
                </a:solidFill>
                <a:latin typeface="Times New Roman"/>
              </a:rPr>
              <a:t>。</a:t>
            </a:r>
            <a:r>
              <a:rPr b="1" i="1" lang="en-US" sz="2200" spc="-1" strike="noStrike">
                <a:solidFill>
                  <a:srgbClr val="6666ff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6666ff"/>
                </a:solidFill>
                <a:latin typeface="Times New Roman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187280" y="11592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§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8.2</a:t>
            </a: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函数的复合与反函数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A1DF-7C22-42B0-9AE9-A4DE59A22D0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7C9DD648-9C74-4163-A697-C9489FB8D3CF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FFB3-707F-45DC-B8B8-04F3948A52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72960" y="1219320"/>
            <a:ext cx="844704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66"/>
                </a:solidFill>
                <a:latin typeface="黑体"/>
                <a:ea typeface="黑体"/>
              </a:rPr>
              <a:t>考虑：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任给函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那么它的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函数吗？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不一定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={&lt;1,2&gt;,&lt;3,2&gt;}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为一从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{1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，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3}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到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{2}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的函数，而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 ={&lt;2,1&gt;,&lt;2,3&gt;}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不再是函数，仅是一个关系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任给单射函数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f:A → B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那么它的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函数吗？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f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n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函数，而且是双射函数。但不一定是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函数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66ff"/>
                </a:solidFill>
                <a:latin typeface="隶书"/>
                <a:ea typeface="隶书"/>
              </a:rPr>
              <a:t> </a:t>
            </a:r>
            <a:r>
              <a:rPr b="1" lang="zh-CN" sz="2200" spc="-1" strike="noStrike">
                <a:solidFill>
                  <a:srgbClr val="6666ff"/>
                </a:solidFill>
                <a:latin typeface="隶书"/>
                <a:ea typeface="隶书"/>
              </a:rPr>
              <a:t>对于什么样的函数</a:t>
            </a:r>
            <a:r>
              <a:rPr b="1" lang="en-US" sz="2200" spc="-1" strike="noStrike">
                <a:solidFill>
                  <a:srgbClr val="6666ff"/>
                </a:solidFill>
                <a:latin typeface="隶书"/>
                <a:ea typeface="隶书"/>
              </a:rPr>
              <a:t>f:A → B</a:t>
            </a:r>
            <a:r>
              <a:rPr b="1" lang="zh-CN" sz="2200" spc="-1" strike="noStrike">
                <a:solidFill>
                  <a:srgbClr val="6666ff"/>
                </a:solidFill>
                <a:latin typeface="隶书"/>
                <a:ea typeface="隶书"/>
              </a:rPr>
              <a:t>的逆</a:t>
            </a:r>
            <a:r>
              <a:rPr b="1" lang="en-US" sz="2200" spc="-1" strike="noStrike">
                <a:solidFill>
                  <a:srgbClr val="000000"/>
                </a:solidFill>
                <a:latin typeface="隶书"/>
                <a:ea typeface="隶书"/>
              </a:rPr>
              <a:t>f</a:t>
            </a:r>
            <a:r>
              <a:rPr b="1" lang="en-US" sz="22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-1</a:t>
            </a:r>
            <a:r>
              <a:rPr b="1" lang="zh-CN" sz="2200" spc="-1" strike="noStrike">
                <a:solidFill>
                  <a:srgbClr val="6666ff"/>
                </a:solidFill>
                <a:latin typeface="隶书"/>
                <a:ea typeface="隶书"/>
              </a:rPr>
              <a:t>才是从</a:t>
            </a:r>
            <a:r>
              <a:rPr b="1" lang="en-US" sz="2200" spc="-1" strike="noStrike">
                <a:solidFill>
                  <a:srgbClr val="6666ff"/>
                </a:solidFill>
                <a:latin typeface="隶书"/>
                <a:ea typeface="隶书"/>
              </a:rPr>
              <a:t>B</a:t>
            </a:r>
            <a:r>
              <a:rPr b="1" lang="zh-CN" sz="2200" spc="-1" strike="noStrike">
                <a:solidFill>
                  <a:srgbClr val="6666ff"/>
                </a:solidFill>
                <a:latin typeface="隶书"/>
                <a:ea typeface="隶书"/>
              </a:rPr>
              <a:t>到</a:t>
            </a:r>
            <a:r>
              <a:rPr b="1" lang="en-US" sz="2200" spc="-1" strike="noStrike">
                <a:solidFill>
                  <a:srgbClr val="6666ff"/>
                </a:solidFill>
                <a:latin typeface="隶书"/>
                <a:ea typeface="隶书"/>
              </a:rPr>
              <a:t>A</a:t>
            </a:r>
            <a:r>
              <a:rPr b="1" lang="zh-CN" sz="2200" spc="-1" strike="noStrike">
                <a:solidFill>
                  <a:srgbClr val="6666ff"/>
                </a:solidFill>
                <a:latin typeface="隶书"/>
                <a:ea typeface="隶书"/>
              </a:rPr>
              <a:t>的函数呢？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187280" y="11592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§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8.2</a:t>
            </a: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函数的复合与反函数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4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4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1775-E0FE-42F3-B0AC-09BBFAC3A23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79ADCA44-FA72-4D1C-B987-DE613CB267BB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E97E-763F-4A2B-85B9-CAECBF7FEA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9640" y="1218960"/>
            <a:ext cx="83757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8.4</a:t>
            </a:r>
            <a:r>
              <a:rPr b="1" lang="en-US" sz="2200" spc="-1" strike="noStrike">
                <a:solidFill>
                  <a:srgbClr val="ff0066"/>
                </a:solidFill>
                <a:latin typeface="Times New Roman"/>
                <a:ea typeface="黑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f:A → B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是双射的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则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也是双射的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证明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: 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先证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是从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到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的函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：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 → A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9933ff"/>
                </a:solidFill>
                <a:latin typeface="Times New Roman"/>
              </a:rPr>
              <a:t>∵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是函数 </a:t>
            </a:r>
            <a:r>
              <a:rPr b="1" lang="zh-CN" sz="2200" spc="-1" strike="noStrike">
                <a:solidFill>
                  <a:srgbClr val="9933ff"/>
                </a:solidFill>
                <a:latin typeface="Times New Roman"/>
              </a:rPr>
              <a:t>∴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是关系，且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domf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=ranf=B, ranf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=domf=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对于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B=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domf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若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y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,y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&lt;x, y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&gt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∈f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∧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&lt;x, y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&gt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∈f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成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&lt; y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,x &gt;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 &lt; y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,x&gt;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f </a:t>
            </a:r>
            <a:r>
              <a:rPr b="1" lang="en-US" sz="2200" spc="-1" strike="noStrike">
                <a:solidFill>
                  <a:srgbClr val="ff3399"/>
                </a:solidFill>
                <a:latin typeface="Times New Roman"/>
              </a:rPr>
              <a:t>=&gt;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y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= y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9933ff"/>
                </a:solidFill>
                <a:latin typeface="Times New Roman"/>
              </a:rPr>
              <a:t>∵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f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是单射函数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ff"/>
                </a:solidFill>
                <a:latin typeface="Times New Roman"/>
              </a:rPr>
              <a:t>        ∴ 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f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是函数，而且是满射函数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899640" y="78840"/>
            <a:ext cx="64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§8.2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函数的复合与反函数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7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E798-69B1-4303-B567-8E7A2DF6183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B7852FA9-7D4F-4B55-88D5-07AB534606D0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6563-488F-4B88-90BF-123D415ADE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3640" y="1196640"/>
            <a:ext cx="4753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第八章   函数</a:t>
            </a: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050920" y="2205000"/>
            <a:ext cx="583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8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的定义与性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函数的复合与反函数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8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双射函数与集合的基数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电话系统的描述实例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C889-A994-43B8-A37C-ADB0F74A137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8E157849-6A2E-413F-A58E-0A461420683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5383-7113-4696-A76F-524244FB99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再证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：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 → A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的单射性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若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,x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 f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=y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&lt;x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, y &gt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∈f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∧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&lt;x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, y &gt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∈f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ff3399"/>
                </a:solidFill>
                <a:latin typeface="Times New Roman"/>
              </a:rPr>
              <a:t>=&gt;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&lt; y,x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&gt;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∧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 &lt; y ,x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&gt;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∈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f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ff3399"/>
                </a:solidFill>
                <a:latin typeface="Times New Roman"/>
              </a:rPr>
              <a:t>=&gt;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x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= x</a:t>
            </a:r>
            <a:r>
              <a:rPr b="1" lang="en-US" sz="2200" spc="-1" strike="noStrike" baseline="-25000">
                <a:solidFill>
                  <a:srgbClr val="a50021"/>
                </a:solidFill>
                <a:latin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9933ff"/>
                </a:solidFill>
                <a:latin typeface="Times New Roman"/>
              </a:rPr>
              <a:t>∵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 f</a:t>
            </a:r>
            <a:r>
              <a:rPr b="1" lang="zh-CN" sz="2200" spc="-1" strike="noStrike">
                <a:solidFill>
                  <a:srgbClr val="a50021"/>
                </a:solidFill>
                <a:latin typeface="Times New Roman"/>
              </a:rPr>
              <a:t>是函数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ff"/>
                </a:solidFill>
                <a:latin typeface="Times New Roman"/>
              </a:rPr>
              <a:t>∴ 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f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2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是单射函数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ff"/>
                </a:solidFill>
                <a:latin typeface="Times New Roman"/>
              </a:rPr>
              <a:t>综上所述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200" spc="-1" strike="noStrike">
                <a:solidFill>
                  <a:srgbClr val="6666ff"/>
                </a:solidFill>
                <a:latin typeface="Times New Roman"/>
              </a:rPr>
              <a:t>是双射的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对于双射函数</a:t>
            </a:r>
            <a:r>
              <a:rPr b="1" lang="en-US" sz="2200" spc="-1" strike="noStrike">
                <a:solidFill>
                  <a:srgbClr val="000000"/>
                </a:solidFill>
                <a:latin typeface="隶书"/>
                <a:ea typeface="隶书"/>
              </a:rPr>
              <a:t>f:A→B </a:t>
            </a:r>
            <a:r>
              <a:rPr b="1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，称</a:t>
            </a:r>
            <a:r>
              <a:rPr b="1" lang="en-US" sz="2200" spc="-1" strike="noStrike">
                <a:solidFill>
                  <a:srgbClr val="000000"/>
                </a:solidFill>
                <a:latin typeface="隶书"/>
                <a:ea typeface="隶书"/>
              </a:rPr>
              <a:t>f</a:t>
            </a:r>
            <a:r>
              <a:rPr b="1" lang="en-US" sz="22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-1</a:t>
            </a:r>
            <a:r>
              <a:rPr b="1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隶书"/>
                <a:ea typeface="隶书"/>
              </a:rPr>
              <a:t>B→A</a:t>
            </a:r>
            <a:r>
              <a:rPr b="1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是它的</a:t>
            </a:r>
            <a:r>
              <a:rPr b="1" lang="zh-CN" sz="2200" spc="-1" strike="noStrike">
                <a:solidFill>
                  <a:srgbClr val="ff99ff"/>
                </a:solidFill>
                <a:latin typeface="隶书"/>
                <a:ea typeface="隶书"/>
              </a:rPr>
              <a:t>反函数</a:t>
            </a:r>
            <a:r>
              <a:rPr b="1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4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§8.2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函数的复合与反函数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E5EE-39B2-46A2-BAD4-50BD46FE1E1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8B0FDB4D-BA72-4311-93B5-E3CDF0CF6623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13F1-37D4-48ED-A897-7714984A13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4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§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8.2</a:t>
            </a: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函数的复合与反函数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6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→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双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f-1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 = IB, f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-1 = I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证    由定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8.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可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f-1: B→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也是双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由定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推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可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f-1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: B→B, f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-1: A→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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任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x, y&gt;, &lt;x, y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-1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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　　 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(&lt;x, t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-1∧&lt;t, y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　　 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(&lt;t, x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∧&lt;t, y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 　　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=y∧x, y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 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　　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函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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　　 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x, y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B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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任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x, y&gt;,   &lt;x, y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B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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　　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=y∧x, y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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　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(&lt;t, x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∧&lt;t, y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)  (f: A→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双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　　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(&lt;x, t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-1∧&lt;t, y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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　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x, y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-1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所以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-1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 = IB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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同理可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f-1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 = I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DFE8-5AB6-476E-A90B-FA9670BA470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130E50FB-6694-44B3-87B0-B4EA97C3B98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878C-98E4-4149-8499-4759BE825C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8.2 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函数的复合与反函数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10760" y="1125360"/>
            <a:ext cx="81932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.8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→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→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2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存在反函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出它们的反函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: R→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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: R→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: R→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是双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存在其反函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: R→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双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反函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R→R, g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x) = x-2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1631880" y="1628640"/>
          <a:ext cx="2400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1628640"/>
                    <a:ext cx="2400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2666880" y="3429000"/>
                <a:ext cx="2536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∘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≥</m:t>
                          </m:r>
                          <m:r>
                            <m:t xml:space="preserve">3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3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6"/>
              <p:cNvSpPr txBox="1"/>
              <p:nvPr/>
            </p:nvSpPr>
            <p:spPr>
              <a:xfrm>
                <a:off x="2743200" y="4267080"/>
                <a:ext cx="25416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∘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≥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BBB4-3296-495F-B7E1-53D5477588A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D02DD456-FAD6-4E0A-BAFB-47D1605F543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26FC-489F-4FA8-97BA-31DCB384AC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533520" y="1523880"/>
            <a:ext cx="83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集合的势是量度集合所含元素多少的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集合的势越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所含的元素越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2120040" y="115920"/>
            <a:ext cx="439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  <a:ea typeface="楷体_GB2312"/>
              </a:rPr>
              <a:t>8.3 </a:t>
            </a:r>
            <a:r>
              <a:rPr b="1" lang="zh-CN" sz="4200" spc="-1" strike="noStrike">
                <a:solidFill>
                  <a:srgbClr val="333399"/>
                </a:solidFill>
                <a:latin typeface="Arial"/>
                <a:ea typeface="楷体_GB2312"/>
              </a:rPr>
              <a:t>双射函数与集合的基数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457200" y="2362320"/>
            <a:ext cx="8077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8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存在着从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到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双射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等势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记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否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等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记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2936160" y="3809880"/>
            <a:ext cx="6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下面给出一些集合等势的例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533520" y="4335480"/>
            <a:ext cx="45720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.9 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(1) Z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: Z→N,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7"/>
              <p:cNvSpPr txBox="1"/>
              <p:nvPr/>
            </p:nvSpPr>
            <p:spPr>
              <a:xfrm>
                <a:off x="3075120" y="4764240"/>
                <a:ext cx="29192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53" name="Rectangle 8"/>
          <p:cNvSpPr/>
          <p:nvPr/>
        </p:nvSpPr>
        <p:spPr>
          <a:xfrm>
            <a:off x="1554840" y="5715000"/>
            <a:ext cx="46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双射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因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8DE4-6FA5-4527-A507-1D375DD73B7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3AB0FFDD-5C30-4211-8C4A-FA8C892B7A1C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B785-9469-4B7D-B88E-B9420F3C3A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Picture 3" descr="91"/>
          <p:cNvPicPr/>
          <p:nvPr/>
        </p:nvPicPr>
        <p:blipFill>
          <a:blip r:embed="rId1"/>
          <a:stretch/>
        </p:blipFill>
        <p:spPr>
          <a:xfrm>
            <a:off x="5638680" y="762120"/>
            <a:ext cx="3276720" cy="270972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4"/>
          <p:cNvSpPr/>
          <p:nvPr/>
        </p:nvSpPr>
        <p:spPr>
          <a:xfrm>
            <a:off x="185040" y="1143000"/>
            <a:ext cx="18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(2) N </a:t>
            </a:r>
            <a:r>
              <a:rPr b="1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228600" y="3505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果能够找到“数遍”这些点的方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个计数过程就是建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双射函数的过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按照图中箭头所标明的顺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&lt;0, 0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开始数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依次得到下面的序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85800" y="4691160"/>
            <a:ext cx="7848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&lt;0, 0&gt;, &lt;0, 1&gt;, &lt;1, 0&gt;, &lt;0, 2&gt;, &lt;1, 1&gt;, &lt;2, 0&gt;, …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 ↓  ↓    ↓   ↓   ↓   ↓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 1     2 3 4     5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228600" y="151128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建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双射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只需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中所有的元素排成一个有序图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右图所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中的元素恰好是坐标平面上第一象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含坐标轴在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中所有整数坐标的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6EC5-B108-4EF5-A52B-C6EF0D2EDB2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7C83CA4-0ADC-4875-9571-43C2A7FC6C9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5EF4-4FEB-4B59-892D-E66DB46CB4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04920" y="1295280"/>
            <a:ext cx="8458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&lt;m, n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图上的一个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它所对应的自然数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k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考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m, 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之间的关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)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计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&lt;m, n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点所在斜线下方平面上所有的点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+2+…+(m+n) = (m+n+1)(m+n)/2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)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再计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&lt;m, n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所在斜线上按照箭头标明的顺序位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&lt;m, n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点之前的点数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m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因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&lt;m, n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点是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m+n+1)(m+n)/2 + m +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于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k = (m+n+1)(m+n)/2 + 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上面分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给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双射函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: 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→N, f(&lt;m, n&gt;) = (m+n+1)(m+n)/2 + m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3556-981A-4ACB-B00F-3793DA25172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35E66112-C18E-436F-AE14-0E76BC833AFC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E470-2BA6-46CE-88BA-E1A0F6C5D5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 Black"/>
                <a:ea typeface="楷体_GB2312"/>
              </a:rPr>
              <a:t>(3) N</a:t>
            </a:r>
            <a:r>
              <a:rPr b="0" lang="en-US" sz="2000" spc="-1" strike="noStrike">
                <a:solidFill>
                  <a:srgbClr val="ff00ff"/>
                </a:solidFill>
                <a:latin typeface="Arial Black"/>
              </a:rPr>
              <a:t>≈</a:t>
            </a:r>
            <a:r>
              <a:rPr b="0" lang="en-US" sz="2000" spc="-1" strike="noStrike">
                <a:solidFill>
                  <a:srgbClr val="ff00ff"/>
                </a:solidFill>
                <a:latin typeface="Arial Black"/>
                <a:ea typeface="楷体_GB2312"/>
              </a:rPr>
              <a:t>Q</a:t>
            </a:r>
            <a:r>
              <a:rPr b="0" lang="en-US" sz="2000" spc="-1" strike="noStrike">
                <a:solidFill>
                  <a:srgbClr val="ff00ff"/>
                </a:solidFill>
                <a:latin typeface="Arial Black"/>
                <a:ea typeface="楷体_GB2312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  <a:ea typeface="楷体_GB2312"/>
              </a:rPr>
              <a:t>(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 Black"/>
                <a:ea typeface="楷体_GB2312"/>
              </a:rPr>
              <a:t>有理数的集合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  <a:ea typeface="楷体_GB2312"/>
              </a:rPr>
              <a:t>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楷体_GB2312"/>
              </a:rPr>
              <a:t>先把所有形式为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楷体_GB2312"/>
              </a:rPr>
              <a:t>p/q(p,q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楷体_GB2312"/>
              </a:rPr>
              <a:t>为整数且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楷体_GB2312"/>
              </a:rPr>
              <a:t>q&gt;0)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楷体_GB2312"/>
              </a:rPr>
              <a:t>的数排成一张表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楷体_GB2312"/>
              </a:rPr>
              <a:t>显然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楷体_GB2312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楷体_GB2312"/>
              </a:rPr>
              <a:t>所有有理数都在这张表内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楷体_GB2312"/>
              </a:rPr>
              <a:t>见下图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楷体_GB2312"/>
              </a:rPr>
              <a:t>).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70" name="Picture 3" descr="92"/>
          <p:cNvPicPr/>
          <p:nvPr/>
        </p:nvPicPr>
        <p:blipFill>
          <a:blip r:embed="rId1"/>
          <a:stretch/>
        </p:blipFill>
        <p:spPr>
          <a:xfrm>
            <a:off x="985680" y="1752480"/>
            <a:ext cx="5715000" cy="181944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4"/>
          <p:cNvSpPr/>
          <p:nvPr/>
        </p:nvSpPr>
        <p:spPr>
          <a:xfrm>
            <a:off x="6907320" y="2246400"/>
            <a:ext cx="1828800" cy="858600"/>
          </a:xfrm>
          <a:prstGeom prst="wedgeRoundRectCallout">
            <a:avLst>
              <a:gd name="adj1" fmla="val -71787"/>
              <a:gd name="adj2" fmla="val -26708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数上方方括号内标明了这个有理数所对应的计数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04920" y="3505320"/>
            <a:ext cx="8610480" cy="22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上图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0/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为第一个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按照箭头规定的顺序可以“数遍”表中所有的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但在计数过程并没有建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Q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的双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因为同一个有理数可能被多次数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例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: 1/1, 2/2, 3/3, 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都是有理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为此规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在计数过程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需跳过以后各次所遇到的同一有理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: 1/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被计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那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, 2/2, 3/3, 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都要被跳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样就可以定义双射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f: N→Q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f(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[n]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下方的有理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从而可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: 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Q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ACD0-44EA-44C6-B334-4E9BAB10C2E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70C3058C-E56A-45FE-A524-658E82F46CB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69F5-3AFC-4181-BB73-F0097BE84C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66680" y="1832040"/>
            <a:ext cx="624852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(4) (0, 1)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R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(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其中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: (0, 1) = { x | x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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R,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且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0&lt;x&lt;1 }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: (0, 1)→R, f(x) = tan(2x-1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2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显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单调上升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anf = 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所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双射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(0, 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62DA-2B10-463E-8815-91839357EA9A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465DB28-2E62-4C55-BD8D-3EFBBF406AF2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DEF6-9C45-472B-B1D9-5508E6A1BE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57200" y="1066680"/>
            <a:ext cx="83818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(5) [0,1]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(0,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(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其中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: (0, 1) = { x | x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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R, 0&lt;x&lt;1 },  [0,1] = { x | x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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R, 0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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x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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 }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构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0,1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0,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双射函数需解决端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对应问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选择一个无限序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369960" y="2666880"/>
            <a:ext cx="36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/2, 1/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1/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…, 1/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946160" y="320040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构造下面一一对应关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762120" y="36720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,        1,       1/2,     1/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…, 1/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↓       ↓    ↓    ↓   ↓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/2,     1/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1/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  1/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…, 1/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+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533520" y="4819680"/>
            <a:ext cx="8229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区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0,1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中其余的数则自己对应自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显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该对应关系是双射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B77F-68EC-4A4D-BD83-FB3335FDB55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3B91BC91-C95B-47A4-89A0-2CC25AF199A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85FB-F6C3-4D38-9C0A-C7B847A434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304920" y="1371600"/>
            <a:ext cx="48006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将双射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: [0,1]→(0,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所对应的规律形式化如右式所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由此可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[0, 1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0, 1)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4"/>
              <p:cNvSpPr txBox="1"/>
              <p:nvPr/>
            </p:nvSpPr>
            <p:spPr>
              <a:xfrm>
                <a:off x="5105520" y="1219320"/>
                <a:ext cx="366372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1,2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其它</m:t>
                              </m:r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0" name="Rectangle 5"/>
          <p:cNvSpPr/>
          <p:nvPr/>
        </p:nvSpPr>
        <p:spPr>
          <a:xfrm>
            <a:off x="609480" y="3187800"/>
            <a:ext cx="777240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(6) [0,1]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[a,b]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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a, b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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R, 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b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构造一个从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&lt;0, a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&lt;1, b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单调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由解析几何知识不难可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: [0, 1]→[a, b], f(x) = (b-a)x + 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而可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[0, 1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a, b]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类似可证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 (0, 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a, b).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, 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,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4192-BB3E-4971-B916-899814900DA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39CDE13B-8266-4EB7-A50B-D65672691DE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D1E9-715D-4D71-BADA-C71A82D596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24000" y="1125360"/>
            <a:ext cx="856908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二元关系，若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o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都存在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唯一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n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使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Fy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为函数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对于函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果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xFy</a:t>
            </a:r>
            <a:r>
              <a:rPr b="1" i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则记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y 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F(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并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5400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§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8.1</a:t>
            </a: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函数的定义与性质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50920" y="2508120"/>
            <a:ext cx="8066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1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&lt;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, &lt;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, &lt;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}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&lt;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, &lt;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}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37000" y="3073320"/>
            <a:ext cx="140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函数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50920" y="3646440"/>
            <a:ext cx="38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函数，则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657160" y="2981160"/>
            <a:ext cx="157824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不是函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3805200" y="3645000"/>
            <a:ext cx="284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=G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G∧ G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26920" y="4946760"/>
            <a:ext cx="540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6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om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om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都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= G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165680" y="4051440"/>
            <a:ext cx="29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注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=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那么它们满足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24000" y="530208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3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为集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果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函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且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om f=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an f</a:t>
            </a:r>
            <a:r>
              <a:rPr b="1" i="1" lang="en-US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称为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函数，记作</a:t>
            </a:r>
            <a:r>
              <a:rPr b="1" i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i="1" lang="en-US" sz="2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200" spc="-1" strike="noStrike">
                <a:solidFill>
                  <a:srgbClr val="ff0000"/>
                </a:solidFill>
                <a:latin typeface="宋体"/>
              </a:rPr>
              <a:t>→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1141560" y="4510080"/>
            <a:ext cx="241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om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om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;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F62D-370A-4613-BF20-8EA946CB2B9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F2401AAC-76CD-4E2E-8F55-270D73DDD90B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1EAD-95CF-4D4C-8D0D-35187A10A4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684000" y="1371600"/>
            <a:ext cx="5234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.10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任意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P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{ 0, 1 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80880" y="1905120"/>
            <a:ext cx="762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证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1143000" y="1982880"/>
            <a:ext cx="72388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构造函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: P(A)→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f(A’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A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P(A)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A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集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特征函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  <a:hlinkClick r:id="rId1" action="ppaction://hlinksldjump"/>
              </a:rPr>
              <a:t>见定义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  <a:hlinkClick r:id="rId2" action="ppaction://hlinksldjump"/>
              </a:rPr>
              <a:t>8.7(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显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单射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于任意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那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: A→{ 0, 1 }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B = { x |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, g(x) = 1 }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 g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P(A), f(B) = g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由此可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满射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由等势定义可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P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2F04-E6C5-413C-8D95-4341BF968D7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83766BDE-C2AB-471F-A660-8DAC80C7724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9D8C-4260-4525-8FDD-3071A5739D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750600" y="1219320"/>
            <a:ext cx="38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定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8.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, 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任意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676520" y="1552680"/>
            <a:ext cx="4572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1)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,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304920" y="2797200"/>
            <a:ext cx="86104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证明从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由定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.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等势关系是自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称和传递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前面的例子和定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.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,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0, 1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0, 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后结果可进一步推广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任何实数区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包括开区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闭区间以及半开半闭的区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都与实数集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等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讨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否等势？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上面列出的所有集合彼此都是等势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等势的那些集合也不会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等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EB7F-7DF8-40AC-A14F-BE0DBBC90DC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8E29A08-B5D3-40AD-8313-4049F3EE9838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6E7E-EBDA-49B9-9BD4-EA1AE82380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304920" y="838080"/>
            <a:ext cx="8001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定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8.7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康托定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(1)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任意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都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P(A)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228600" y="1371600"/>
            <a:ext cx="685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证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33520" y="1905120"/>
            <a:ext cx="8381880" cy="35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能证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0,1]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可断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此需证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任何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: N→[0,1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都不是满射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先规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0, 1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中数的表示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0, 1]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规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x = 0.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, (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考察两个表示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0.24999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25000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显然它们是同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表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了保证表示法的唯一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果遇到上述情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表示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25000…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这种表示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任何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: N→[0, 1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值都可以用这种表示式给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835920" y="5715000"/>
            <a:ext cx="5961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楷体_GB2312"/>
              </a:rPr>
              <a:t>Georg Cantor is the father of set theory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56F4-A57A-4BA5-B725-C537B17446E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57840258-F848-41B6-932C-31EBF0CEE16A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5C4E-A617-42C6-8AB7-91EF45FE14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228600" y="1190520"/>
            <a:ext cx="86104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: N→[0, 1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0, 1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任何一个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下列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所有函数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(0) = 0.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(1) = 0.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(n-1) = 0.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(n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(n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0, 1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之中的一个小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表示式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且满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(i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i=1, 2, …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显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可以构造出来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上面列出的任何一个函数值都不相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就可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anf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是满射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E4FD-CE16-49CA-85DE-F02D2396E0A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19DC55CB-4E95-478D-9662-221DF8F5B83A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3647-C122-4B73-884A-B9408F65FF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04920" y="1406520"/>
            <a:ext cx="838188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类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证明方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证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任何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: A→P(A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都不是满射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: A→P(A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P(A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构造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: B = { 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,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(x) }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P(A)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但对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都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(x)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因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都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(x)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ang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上面定理可以知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P(N)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再综合前边结果不难断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{0, 1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实际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P(N), {0, 1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都是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更大”的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里的“大”至今为止还没有给出其严格的定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909B-F284-4950-8D9C-AA4AAB7A141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230D736-31B9-482D-A7C3-805C184E368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99A2-B4DE-4DF5-A85B-035E6CA720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304920" y="1523880"/>
            <a:ext cx="8610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8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(1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存在从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到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单射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优势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记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≤·B;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是优势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记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≤·B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80880" y="2895480"/>
            <a:ext cx="8390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≤·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真优势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记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&lt;·B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是真优势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记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&lt;·B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867960" y="4495680"/>
            <a:ext cx="449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N,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R,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P(A), 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N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&lt;·R, A&lt;·P(A), N&lt;·N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37DE-DF66-434F-9993-50F3BF9C294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9D4EA87-E444-45D9-9624-76445CC1EBE2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33F1-EB79-4465-BC2A-B818582F26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804960" y="1203480"/>
            <a:ext cx="38224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定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8.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, 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1)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A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B,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A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B,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C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C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85800" y="3009960"/>
            <a:ext cx="746748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本定理的证明从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以上定理不仅为证明集合之间的优势提供了方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也为证明集合之间的等势提供了有力的工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一些情况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接构造从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到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双射函数是相当困难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相比之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构造两个单射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: A→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: B→A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可能要容易得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DDFD-51FC-4B2A-A3E6-C1DC37DB8BEA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FBCFFABF-17C3-47CB-8795-DF5F0C2D96BA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83DC-1942-43C1-8357-BBE19EEC87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04920" y="1266840"/>
            <a:ext cx="861048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下面证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{0, 1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0, 1]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0,1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内的小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0.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二进制表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保证表示的唯一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表示式中不允许出现连续无数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情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x = 0.1010111…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应按规定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记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1011000…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任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0,1), x = 0.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二进制表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定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: [0,1]→{0,1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f(x) =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N→{0,1}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n) =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n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n = 0, 1, 2, 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x = 0.10110100…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对应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    0  1  2  3  4  5  6  7 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n)   1  0  1  1  0  1  0  0 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显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{0,1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于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, y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0,1],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y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f(x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(y)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就证明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: [0,1]→{0,1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单射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6AB1-9DF2-4AC0-A357-7A285FCDCB7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D7EACEA9-0E34-4C13-91F2-5BD5077CFC4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AB03-9502-4889-A073-ABC591D8F6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228600" y="1066680"/>
            <a:ext cx="891540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若上面定义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是满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就可直接证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: {0,1}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[0,1]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但这是不可能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因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不是满射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考虑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{0,1}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其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t(0) = 0, t(n) = 1, n = 1, 2, …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按照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映射规则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只有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x = 0.011…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才能满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f(x) = t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但根据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表示法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这个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应该表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100…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所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根本不存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[0,1],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使得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: f(x) = t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为解决该问题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定义另一单射函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g: {0,1}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→[0,1]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映射规则恰好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相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即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{0, 1}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t: N→{0, 1}, g(t) = 0.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…,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其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n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= t(n)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但不同的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将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看作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十进制表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例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t1, 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{0, 1}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g(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) = 0.0111…, g(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) = 0.1000…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若将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g(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g(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都看成二进制表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g(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) = g(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);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若都看成十进制表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g(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g(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)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这样就避免了因为进位造成的干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从而保证了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单射性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6D10-94BB-4EE1-AC26-19CE9A9821F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5419017-87E9-439E-95FF-B5AEF201E799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EF7E-C6BD-42B5-8CF7-7C076B471A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533520" y="1739880"/>
            <a:ext cx="815328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由定理可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{ 0,1 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0,1]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用等势的传递性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{ 0,1 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综合前面的讨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总结如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a,b]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c,d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{ 0,1 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P(N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{ 0,1 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P(A) 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 &lt;· 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 &lt;· P(A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其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a, b], (c, d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代表任意的实数闭区间和开区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2017-C616-443B-9327-3CD62D9414D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81B28FC-93E3-4A04-A7C8-1199EABC57A6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页脚占位符 4"/>
          <p:cNvSpPr/>
          <p:nvPr/>
        </p:nvSpPr>
        <p:spPr>
          <a:xfrm>
            <a:off x="3492360" y="6211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ADBB-FC05-46F0-8CBC-715BE50541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1066320"/>
            <a:ext cx="84074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有从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函数的集合记作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即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A→B}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注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|A|=m, |B|=n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| =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496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2. Φ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Times New Roman"/>
              </a:rPr>
              <a:t>Φ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 B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Times New Roman"/>
              </a:rPr>
              <a:t>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79280" y="3330720"/>
            <a:ext cx="6193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函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A→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9280" y="3768840"/>
            <a:ext cx="830592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令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={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|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}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在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下的像。特别地，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A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函数的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0920" y="4670280"/>
            <a:ext cx="889308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令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=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|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∧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x)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在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下的完全原像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见教材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3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187280" y="115920"/>
            <a:ext cx="54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§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8.1</a:t>
            </a: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函数的定义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399600" y="2852640"/>
            <a:ext cx="2096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见教材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3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B564-76B6-456C-AEBC-E6B7B167E47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E676413B-EC2E-4590-A420-98C96FE35F86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58BF-E2CE-494A-B21A-8FFFA7472A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228600" y="1219320"/>
            <a:ext cx="86868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前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们抽象地讨论了集合的等势与优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在讨论研究度量集合势的方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最简单的集合是有穷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介绍前面知识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已多次用到“有穷集”的概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但只直观地理解为含有有限多个元素的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并没有精确地给出有穷集的定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解决该问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下面先定义自然数和自然数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578880" y="3127320"/>
            <a:ext cx="7407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8.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为集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∪{ a }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的后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记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即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= a∪{ a }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685800" y="3581280"/>
            <a:ext cx="7696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考虑空集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一系列后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∪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} 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+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}∪{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}} 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}} 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++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}}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}}∪{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}}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},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,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}}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+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3731-60E3-43E4-BEFF-AF15D16082BA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B581E56-E823-4E45-AF1F-38EFD03E99CB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8A59-98DF-4391-9FBF-E8B4907477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28600" y="1295280"/>
            <a:ext cx="86104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任何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都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空集的所有后继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任何两个集合都不相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且具有下面两个性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143000" y="2209680"/>
            <a:ext cx="5715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前边的集合都是后边集合的元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前边的集合都是后边集合的子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80880" y="3054240"/>
            <a:ext cx="8305920" cy="29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利用这些性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以构造方法用集合来给出自然数的定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 = 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} = { 0 }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 =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{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}} = { 0, 1 }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 = { 0, 1, …, n-1 }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以上定义并没有概括出自然数的共同特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们还可采用另一种方法来刻划自然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3101-A643-4025-912E-9E0B7CA3C0BA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0CA6A28-A83D-45F3-8142-5F357E2CCED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67B3-135D-4D1C-B032-F396ABE79F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04800" y="1523880"/>
            <a:ext cx="8153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下面利用有穷集和无穷集来讨论集合势的度量问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604800" y="2149560"/>
            <a:ext cx="82645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63520" indent="-116352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8.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个集合是有穷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当且仅当它与某个自然数等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63520" indent="-116352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果一个集合不是有穷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称作无穷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604800" y="3371760"/>
            <a:ext cx="82645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{a, b, c}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有穷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因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 = {0,1,2},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{ a, b, c }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{ 0, 1, 2 } = 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都是无穷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因为没有自然数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等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利用自然数的性质可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任何有穷集只与唯一的自然数等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DF4B-8091-45CE-B621-70EA8EB5312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B0978568-35B8-4467-A057-724E1112C8A8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6195-7ECA-48E9-B5FE-69B4EF5AE8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457200" y="1284120"/>
            <a:ext cx="815328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20720" indent="-162072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8.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(1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于有穷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称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等势的那个唯一的自然数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基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记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ardA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也可记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|A|)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ardA = 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457200" y="2583000"/>
            <a:ext cx="81532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67040" indent="-80352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自然数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基数记作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读作阿列夫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ardN = 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67040" indent="-80352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实数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基数记作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ardR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457200" y="4357800"/>
            <a:ext cx="8153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20720" indent="-162072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8.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457200" y="4781520"/>
            <a:ext cx="815328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1) cardA = card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2) card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ard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A≤·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3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Card &lt; cardB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card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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cardB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∧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card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card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7EB3-16FB-448D-9741-F509B9BA10D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723B9C7-40AC-4E5C-85DA-AB2E2A6E6A6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ECA1-D4BC-41E5-ABF0-E1A09F14A9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228600" y="1447920"/>
            <a:ext cx="82915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于势的讨论可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ardZ = cardQ = card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cardP(N) = card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= card[a, b] = card(c, d) (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= {0, 1}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们可看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集合的基数是集合势的大小度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基数越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势就越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由于对任何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都满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A &lt;· P(A)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所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ardA &lt; cardP(A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说明不存在最大的基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D14C-FE99-42A7-BE8B-9BA8AB78A8D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CBC2D32-FE19-441E-82E6-81F9A1616C2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4383-80D1-4F63-B707-CB5E1BD36B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533520" y="1730520"/>
            <a:ext cx="8153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将已知基数按从小到大的顺序排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得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, 1, 2, …, n, …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533520" y="2685960"/>
            <a:ext cx="8153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00000" indent="-276120">
              <a:lnSpc>
                <a:spcPct val="12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, 1, …, n, 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全体自然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有穷集合的基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也叫有穷基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00000" indent="-276120">
              <a:lnSpc>
                <a:spcPct val="12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无穷集合的基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也叫做无穷基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00000" indent="-276120">
              <a:lnSpc>
                <a:spcPct val="12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最小的无穷基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后面还有更大的基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cardP(R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4236-9C5F-48EF-A452-E58F7C4875F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9C055A60-23F8-46DC-A9ED-0BFDCA0415F6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20F8-2150-443D-B6EE-E9683D2565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604800" y="1611360"/>
            <a:ext cx="815328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8.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ard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则称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可数集或可列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604800" y="2076480"/>
            <a:ext cx="815328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{ a, b, c }, 5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整数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Z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Q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以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等都是可数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于任何可数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其元素都可以排列成一个有序图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即都可找到一个“数遍”集合中全体元素的顺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前面讨论可数集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特别是无穷可数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都是用这种方法来证明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实数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是可数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等势的集合也不是可数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7766-BE96-4703-AD08-1E449984632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3EB0DE99-D87E-4E85-B8C7-36514016080F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E046-E5E7-44B0-9912-9BA53C80BF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4800" y="1600200"/>
            <a:ext cx="8153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于可数集有下面的命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604800" y="2111400"/>
            <a:ext cx="815328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84240" indent="-263520">
              <a:lnSpc>
                <a:spcPct val="12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数集的任何子集都是可数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84240" indent="-263520">
              <a:lnSpc>
                <a:spcPct val="12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个可数集的并是可数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84240" indent="-263520">
              <a:lnSpc>
                <a:spcPct val="12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个可数集的笛卡尔积是可数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84240" indent="-263520">
              <a:lnSpc>
                <a:spcPct val="12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数个可数集的笛卡尔积仍是可数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84240" indent="-263520">
              <a:lnSpc>
                <a:spcPct val="12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无穷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幂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P(A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是可数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C706-49B0-4714-A1EA-7E3087A2DB1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F242DC8-FA00-4171-B3D6-F02B6314C04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FEDF-A979-4A9C-B9A6-B7FA9100D2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604800" y="1657440"/>
            <a:ext cx="8153280" cy="30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.1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求下列集合的基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1) T = { x | 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单词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ASEBALL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中的字母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2) B = { 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R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 9, 2x = 8 }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3) C = P(A), A = { 1, 3, 7, 11 }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 = { B, A, S, E, L}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cardT = 5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cardB = 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|A| = 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 cardP(A) = |P(A)| =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 1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B744-C234-4605-B022-E3E471E53F4A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8E0C2DC6-27FF-4C87-94F9-40F77BFA4930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297D-711D-4225-8F81-20EF770FCD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533520" y="692280"/>
            <a:ext cx="8153280" cy="13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00000" indent="-900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.1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cardA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cardB = n, 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自然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ard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00000" indent="-900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533520" y="1569960"/>
            <a:ext cx="815328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)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由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cardA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cardB = 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可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: A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都是可数集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令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: A = {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… }, B = {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…,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n-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}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对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&lt;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&gt;, &lt;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B,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&lt;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&gt; = &lt;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&gt;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i=k∧j=l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定义函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f: A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B→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f(&lt;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&gt;) = in+j, (i=0,1,…, j=0,1,…,n-1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显然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f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双射函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所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cardA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B = cardN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)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直接使用可数集的性质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由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cardA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cardB = 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可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: A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都是可数集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根据性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可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: A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也是可数集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所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cardA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当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B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时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, cardA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cardA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B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由此可得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: cardA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B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4D89-B674-4DB9-BA92-BA182C9AC2AA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C911D137-3A54-4C3F-9CE2-78B8BFE68410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B0A6-A349-4915-8A41-CF040E3AA9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24000" y="1413000"/>
            <a:ext cx="8640720" cy="37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若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an 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满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若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a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都存在唯一的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使得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单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3)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若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既是满射又是单射，则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双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一映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注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96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满射，则对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都存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96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单射，则对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必定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 ≠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9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也就是说，如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 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187280" y="115920"/>
            <a:ext cx="64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§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8.1</a:t>
            </a: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函数的性质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50920" y="981000"/>
            <a:ext cx="28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6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A→B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1D87-617E-4473-98F4-69E21210D18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D8CCE680-44D4-498D-8B72-114199796188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2C99-8BC9-4221-BAB5-954DA3CF1B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762120" y="17524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380880" y="1981080"/>
            <a:ext cx="8305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685800" y="182880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8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电话系统的描述实例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软件系统形式化设计，略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B5CD-C156-4CB6-90FA-1E0274F06C7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8C64636-0BB0-4192-BAF7-3AACA1B3940F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8291-4C95-498A-85C6-50D178D95A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判断下列函数是否为单射、满射、双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684360" y="1773360"/>
          <a:ext cx="663876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663876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F6E9-B39E-473D-8881-D10AEB62D50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90BB6B3B-6E8C-498C-A3B8-2AD2AAFD4D99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BF66-A336-40FF-BE49-B34CB51F31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1095120" cy="5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5050"/>
                </a:solidFill>
                <a:latin typeface="Arial Black"/>
              </a:rPr>
              <a:t>解：</a:t>
            </a:r>
            <a:endParaRPr b="1" lang="en-US" sz="2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50" name="Object 5"/>
          <p:cNvGraphicFramePr/>
          <p:nvPr/>
        </p:nvGraphicFramePr>
        <p:xfrm>
          <a:off x="539640" y="1700280"/>
          <a:ext cx="7844040" cy="48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784404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4FC3-6334-4823-9AE1-8327A7619F6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0CB6C09-BEC6-4349-9A67-7AB5D0D093B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0E2D-7769-478F-B6CD-656372C69C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0872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对如下给定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判断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否构成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函数，如果是，说明它是否为单射、满射和双射，并按要求进行计算。</a:t>
            </a:r>
            <a:endParaRPr b="1" lang="en-US" sz="2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990720" y="1724040"/>
          <a:ext cx="66405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24040"/>
                    <a:ext cx="66405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7679-0A16-4636-8F11-9510486804A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121E8502-02BE-4FB3-9010-08E8E4DE33E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955F-D0FC-40C8-823C-32932F440A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11280" y="1136520"/>
          <a:ext cx="7086600" cy="495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36520"/>
                    <a:ext cx="7086600" cy="49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8:47:55Z</dcterms:created>
  <dc:creator>hlj</dc:creator>
  <dc:description/>
  <dc:language>en-US</dc:language>
  <cp:lastModifiedBy>User</cp:lastModifiedBy>
  <dcterms:modified xsi:type="dcterms:W3CDTF">2012-02-26T03:31:49Z</dcterms:modified>
  <cp:revision>203</cp:revision>
  <dc:subject/>
  <dc:title>ch8-math dis</dc:title>
</cp:coreProperties>
</file>